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1D1-10EB-471D-8D51-D5D43A38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C98-C455-4FB7-BDD9-7E72C994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8D4-A49D-4070-839C-9CB6919A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AD8-886A-459F-84F5-9DBD5777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C1DA-1ADD-4AD1-A56B-05304DC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592-741D-44A9-876F-F9450E21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C584-276E-49E3-A9A3-BDE2F4E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6C2-E9AF-47F5-BA73-5E96231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3A2-39B2-42AE-AF57-B29DAE5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9E3-1F35-412D-8231-BCCF8B16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F35B-FF63-4642-83ED-DCFA555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23-F553-42CC-AC8D-1DB8CA3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EAA2-DAC8-499F-9CBB-04FF5A2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527D-36A6-42A0-A9F6-8330FBC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240A-4FC3-40D0-9813-77E65A24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A3D-E465-4ADA-AA5C-6815D733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5831-C7E2-4611-A361-F81E9FA5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D0F-0EA5-4691-AA98-897412C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9F0-03E2-4A88-9F32-D8B261F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872-16D5-4749-968D-58E88B51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235-64C5-4A46-9048-262D550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A31-6C29-464D-80FC-3B4E530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2F4-E8D1-42BE-AB3F-7EFCA266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7AE-9ABC-4C7B-96F4-AB970DD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50A-CF7D-4005-A1F6-BCE0903B08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D64-5682-41DD-B373-76805F755DA1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aad.udg.mx/~lprado/portal-psic/Sistema%20visual/Analogia%20camara-ojo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udicion-cr.com/oido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02480" cy="24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TEMA 6: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ESTÍMULO Y RESPUESTA. RECEPTORES Y EFECT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3573000"/>
            <a:ext cx="66308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PERCEPCIÓN DEL MED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2. EL SENTIDO DEL TAC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3. LOS SENTIDOS DEL OLFATO Y EL GUS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4. EL SENTIDO DEL OÍ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5. EL SENTIDO DE LA V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 LA ELABORACIÓN DE LA RESPUE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7. EL SISTEMA LOCOMO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8. ARTICULACIONES Y MOVIMI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5. EL SENTIDO DE LA VI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3552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órganos donde reside el sentido de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Órganos ane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eja, párpado, pestañas, glándula lacr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Globo o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cleró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pa externa, protege y da forma al ojo. Delante está la córnea (es transpar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roi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oscura en el interior del o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t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con los receptores visuales (conos y bast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ente transparente tras el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p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bertura en el centro del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úsculo circular bajo la 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n esta imagen se observa la anatomía interna del globo ocular. Tomada de perso.wanadoo.es\icsalud"/>
          <p:cNvPicPr/>
          <p:nvPr/>
        </p:nvPicPr>
        <p:blipFill>
          <a:blip r:embed="rId1"/>
          <a:stretch/>
        </p:blipFill>
        <p:spPr>
          <a:xfrm>
            <a:off x="5651640" y="4508640"/>
            <a:ext cx="2842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74320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jo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 luz penetra por la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upil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gracias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s imágenes se forman en la retina. Los receptores de la retina captan la luz reflejada por los objetos y producen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que se transportan por el nervio óptico hasta el cereb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 los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ojo rea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omod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cristalino adapta la curvatura y permite que las imágenes se sitúen correctamente sobr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gulación de la cantidad de lu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pupila se cierra o abre en función de la intensidad lum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Bast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rciben luz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aja intens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no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ciben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a imagen que se forma sobre la retina es invertida y de menor tamaño que la realidad; en la retina se genera un impulso eléctrico que llega a la corteza visual donde se produce la sensación de ver. Tomada de salud.discoveryespanol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33360"/>
            <a:ext cx="478152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omalías de la vi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ces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lobo ocular que hace que los objetos se sitúen delante de la retina. Para corregirlo se usan lentes di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iper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ca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del globo ocular que hace que los objetos se dibujen detrás de la retina. Se corrige con lentes con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stigmatism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nea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urvatura ir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Se corrige con lentes cilínd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 los 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var, buena luz, distancias adecuadas, evitar leer en mov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comodacion"/>
          <p:cNvPicPr/>
          <p:nvPr/>
        </p:nvPicPr>
        <p:blipFill>
          <a:blip r:embed="rId1"/>
          <a:stretch/>
        </p:blipFill>
        <p:spPr>
          <a:xfrm>
            <a:off x="2124000" y="4862520"/>
            <a:ext cx="5062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6. LA ELABORACIÓN DE LA RESPUE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283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estímulos captados por los receptores y transformados e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son enviados a la médula y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erebro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onde se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elaboran las órdenes de respues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corteza cerebral tie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sensit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os se traducen en s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vemos, oímos, sentimos en el cereb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n impul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os que se conducen 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rganos efectores por medi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uronas 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a corteza cerebral está muy replegada para tener más superficie. Tomada de www.psicoactiva.com"/>
          <p:cNvPicPr/>
          <p:nvPr/>
        </p:nvPicPr>
        <p:blipFill>
          <a:blip r:embed="rId1"/>
          <a:stretch/>
        </p:blipFill>
        <p:spPr>
          <a:xfrm>
            <a:off x="5688000" y="3357720"/>
            <a:ext cx="34560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voluntari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actos conscientes controlados de form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voluntar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(andar, pensar) y provocados por estímulos (olor a comida-hambriento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reas sensitiv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orteza cerebral reciben estímulos de los receptores sens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través de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exiones nerviosas las áreas motor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ciben la información de las áreas sensitivas, la procesan y elaboran una respuesta consciente y volun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uesta es conducida por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s motoras al órgan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259920"/>
            <a:ext cx="428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reflej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respuestas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rápidas y automátic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in control voluntario (tos, parpade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órdenes son elaboradas por neuronas motor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médula espi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lementos que intervienen en un arco reflej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eptor sensibl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stímulo del receptor → méd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de asoci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 médula (conecta neurona sensitiva con mo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moto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mite el mensaje al músculo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úscul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arco"/>
          <p:cNvPicPr/>
          <p:nvPr/>
        </p:nvPicPr>
        <p:blipFill>
          <a:blip r:embed="rId1"/>
          <a:stretch/>
        </p:blipFill>
        <p:spPr>
          <a:xfrm>
            <a:off x="5292720" y="4307040"/>
            <a:ext cx="3456000" cy="255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rco_reflejo"/>
          <p:cNvPicPr/>
          <p:nvPr/>
        </p:nvPicPr>
        <p:blipFill>
          <a:blip r:embed="rId2"/>
          <a:stretch/>
        </p:blipFill>
        <p:spPr>
          <a:xfrm>
            <a:off x="468360" y="189000"/>
            <a:ext cx="41418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7. EL SISTEMA LOCOMOTOR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esos y músculos esqueléticos se encarga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cutar las respuest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rdenadas por el sistema nervioso. La colaboración entre huesos y músculos nos permiten mantener la postura, desplazarnos, movern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squelet"/>
          <p:cNvPicPr/>
          <p:nvPr/>
        </p:nvPicPr>
        <p:blipFill>
          <a:blip r:embed="rId1"/>
          <a:stretch/>
        </p:blipFill>
        <p:spPr>
          <a:xfrm>
            <a:off x="6300720" y="3068640"/>
            <a:ext cx="2495520" cy="28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istfront"/>
          <p:cNvPicPr/>
          <p:nvPr/>
        </p:nvPicPr>
        <p:blipFill>
          <a:blip r:embed="rId2"/>
          <a:stretch/>
        </p:blipFill>
        <p:spPr>
          <a:xfrm>
            <a:off x="250920" y="2924280"/>
            <a:ext cx="236700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2771640" y="2997360"/>
            <a:ext cx="338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Esquel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rmazón interno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stiene, proteg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es donde se insertan los músculos que permiten el movimiento.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8 hue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usculatura esquelé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ctúan sobre el esqueleto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ecutan los movimientos volun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ás de 650 múscul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8. ARTICULACIONES Y MOVIMIEN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72010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articul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structuras que unen los huesos del esqueleto y permiten la movilidad de la mayoría de sus pi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según su movi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nmóvi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ráneo) impide el movimiento d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mi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értebras) realizan pequeños desplaz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dera) gran movilidad entre los hu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lementos de una articulación móvil: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a ro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gament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bras muy fuertes que unen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íla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ejido cartilaginoso que recubre y protege los huesos en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psula sinovi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olsa entre los huesos rellena de líquido si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Las vértebras se unen mediante articulaciones semimóviles"/>
          <p:cNvPicPr/>
          <p:nvPr/>
        </p:nvPicPr>
        <p:blipFill>
          <a:blip r:embed="rId1"/>
          <a:stretch/>
        </p:blipFill>
        <p:spPr>
          <a:xfrm>
            <a:off x="7380360" y="1916280"/>
            <a:ext cx="15825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8560" y="4508640"/>
            <a:ext cx="878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ión de los músculos sobre el esquel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ndone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dones resistentes de tejido conjuntivo que unen los músculos a los h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cias a las articulaciones los músculos mueven los huesos. Los músculos trabajan coordinadamente por parejas que funcionan de form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tagón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íceps-tríc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adiografía de fractura de femur"/>
          <p:cNvPicPr/>
          <p:nvPr/>
        </p:nvPicPr>
        <p:blipFill>
          <a:blip r:embed="rId1"/>
          <a:stretch/>
        </p:blipFill>
        <p:spPr>
          <a:xfrm>
            <a:off x="6588000" y="1989000"/>
            <a:ext cx="173052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igamens"/>
          <p:cNvPicPr/>
          <p:nvPr/>
        </p:nvPicPr>
        <p:blipFill>
          <a:blip r:embed="rId2"/>
          <a:stretch/>
        </p:blipFill>
        <p:spPr>
          <a:xfrm>
            <a:off x="2195640" y="2421000"/>
            <a:ext cx="1944720" cy="16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619280" y="40464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siones en el sistema locomot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ntracturas muscular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Fracturas óse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uxaciones (salida de los huesos de las articulacione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sguinces (lesión de ligamento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Roturas de ligamentos y cartílag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1280" y="620640"/>
            <a:ext cx="763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as palancas del cuerpo human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uesos y articulaci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stituyen un sistema de palancas sobre las que actúan los mús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palanca se distinguen 3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potencia (P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aplica la fuer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apoyo (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ustenta la pa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resistencia (R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itúa la fuerza que hay que v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palosea"/>
          <p:cNvPicPr/>
          <p:nvPr/>
        </p:nvPicPr>
        <p:blipFill>
          <a:blip r:embed="rId1"/>
          <a:stretch/>
        </p:blipFill>
        <p:spPr>
          <a:xfrm>
            <a:off x="3348000" y="3645000"/>
            <a:ext cx="288144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640" y="259920"/>
            <a:ext cx="70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alancas según la disposición de sus elemento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im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ermite mucha movilidad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tencia y a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gundo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ence grandes resistencia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desplazamient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erc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xtensos desplazamiento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e resistenci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imapal1"/>
          <p:cNvPicPr/>
          <p:nvPr/>
        </p:nvPicPr>
        <p:blipFill>
          <a:blip r:embed="rId1"/>
          <a:stretch/>
        </p:blipFill>
        <p:spPr>
          <a:xfrm>
            <a:off x="179280" y="2565360"/>
            <a:ext cx="2849760" cy="213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alosea3"/>
          <p:cNvPicPr/>
          <p:nvPr/>
        </p:nvPicPr>
        <p:blipFill>
          <a:blip r:embed="rId2"/>
          <a:stretch/>
        </p:blipFill>
        <p:spPr>
          <a:xfrm>
            <a:off x="5830920" y="4941720"/>
            <a:ext cx="3313080" cy="135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animapal2"/>
          <p:cNvPicPr/>
          <p:nvPr/>
        </p:nvPicPr>
        <p:blipFill>
          <a:blip r:embed="rId3"/>
          <a:stretch/>
        </p:blipFill>
        <p:spPr>
          <a:xfrm>
            <a:off x="320364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palosea2"/>
          <p:cNvPicPr/>
          <p:nvPr/>
        </p:nvPicPr>
        <p:blipFill>
          <a:blip r:embed="rId4"/>
          <a:stretch/>
        </p:blipFill>
        <p:spPr>
          <a:xfrm>
            <a:off x="3995640" y="4724280"/>
            <a:ext cx="150516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nimapal3"/>
          <p:cNvPicPr/>
          <p:nvPr/>
        </p:nvPicPr>
        <p:blipFill>
          <a:blip r:embed="rId5"/>
          <a:stretch/>
        </p:blipFill>
        <p:spPr>
          <a:xfrm>
            <a:off x="615636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alosea1"/>
          <p:cNvPicPr/>
          <p:nvPr/>
        </p:nvPicPr>
        <p:blipFill>
          <a:blip r:embed="rId6"/>
          <a:stretch/>
        </p:blipFill>
        <p:spPr>
          <a:xfrm>
            <a:off x="324000" y="4869000"/>
            <a:ext cx="26128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1. LA PERCEPCIÓN DEL MEDI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Receptores sensitivos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vierten estímulos físico-químicos en impulsos nerviosos, que son transmitidos por el sistema nervioso periférico hasta el sistema nervioso cent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cambios ambientales que pueden ser detectados por nuestro organismo. Los estímulos son captados por unas células nerviosas sensibles= recep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su loc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Interno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interorreceptores) informan sobre el estado y funcionamiento de órganos in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Externos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xterorreceptores) captan estímulos exteriores, se localizan en la superficie de nuestro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el estímulo que reci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canorrecepto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s de 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rmorreceptore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mbios de 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Quimiorreceptore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quí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torrecepto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nsibles a la lu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 u="sng">
                <a:solidFill>
                  <a:srgbClr val="000000"/>
                </a:solidFill>
                <a:uFillTx/>
                <a:latin typeface="Arial"/>
              </a:rPr>
              <a:t>ESQU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apa"/>
          <p:cNvPicPr/>
          <p:nvPr/>
        </p:nvPicPr>
        <p:blipFill>
          <a:blip r:embed="rId1"/>
          <a:stretch/>
        </p:blipFill>
        <p:spPr>
          <a:xfrm>
            <a:off x="179280" y="1916280"/>
            <a:ext cx="8659800" cy="39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360" y="189000"/>
            <a:ext cx="70581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órganos de los senti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3716280"/>
          <a:ext cx="7850520" cy="2676600"/>
        </p:xfrm>
        <a:graphic>
          <a:graphicData uri="http://schemas.openxmlformats.org/drawingml/2006/table">
            <a:tbl>
              <a:tblPr/>
              <a:tblGrid>
                <a:gridCol w="1186200"/>
                <a:gridCol w="1258560"/>
                <a:gridCol w="1406520"/>
                <a:gridCol w="1408320"/>
                <a:gridCol w="1481040"/>
                <a:gridCol w="11098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TAC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OLFA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GUS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VIST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ímul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gaseos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disuelt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acion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ano recepto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l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as nasal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u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1" descr="Los sentidos nos permiten recibir información de nuestro mundo."/>
          <p:cNvPicPr/>
          <p:nvPr/>
        </p:nvPicPr>
        <p:blipFill>
          <a:blip r:embed="rId1"/>
          <a:stretch/>
        </p:blipFill>
        <p:spPr>
          <a:xfrm>
            <a:off x="3132000" y="69228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2. EL SENTIDO DEL TAC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piel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reviste, protege el cuerpo y contiene los receptores táctiles. Está constituida po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os cap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pi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superf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stá constituida por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epitel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varias capas. Las capas superficiales están cubiert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querat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impermeabiliza y melanocitos que producen un pigmento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ela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a color a la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epidermis deri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uñas (prote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los (termoregu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ebáceas (grasa impermeabilizan el p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udoríparas (sudor refrigera la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fun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stituid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conjun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vasos sanguíneos, músculos y receptores táctiles. Debajo del tejido conjuntivo hay una cap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adipo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tege y sirve de aislante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488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os receptores táctiles: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on terminaciones nerviosas libres o encerradas en cápsulas que se hayan dispersas por la pi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gún el estím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Meissn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siones ligeras de 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Pac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iones fuertes y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Ruff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acto, presión y aumento de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Krau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censo de tempera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rminaciones nerviosas lib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nsación de dolor, calor y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Higiene de la pie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limpieza con agua y jabón, duch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a piel es un órgano muy complejo que alberga a los receptores del tacto y del dolor. Adaptada de salud.discoveryespanol.com"/>
          <p:cNvPicPr/>
          <p:nvPr/>
        </p:nvPicPr>
        <p:blipFill>
          <a:blip r:embed="rId1"/>
          <a:stretch/>
        </p:blipFill>
        <p:spPr>
          <a:xfrm>
            <a:off x="0" y="2708280"/>
            <a:ext cx="24382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3. EL SENTIDO DEL OLFATO Y EL GUS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lfa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localiza en las fosas nasales. Esta cavidad está revestida por el epitelio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ucosa nasal= Pituit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tiene dos z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inferior y media de la cavidad. Tiene abundantes capilares que calientan 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uperior de las fosas nasales. Tiene los receptores olfativos con células ciliadas que reciben y transportan estím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2640" y="162864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Los sentidos del olfato y el gusto trabajan conjuntamente para que se aprecie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y reconozcan los sabores característicos de los aliment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0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2" descr="Los receptores del olfato se encuentran en la cavidad nasal. Adaptada de psyserver.pc.rhul.ac.uk"/>
          <p:cNvPicPr/>
          <p:nvPr/>
        </p:nvPicPr>
        <p:blipFill>
          <a:blip r:embed="rId1"/>
          <a:stretch/>
        </p:blipFill>
        <p:spPr>
          <a:xfrm>
            <a:off x="2556000" y="4437000"/>
            <a:ext cx="43923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8354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ust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receptores están en los botones gustativos de las papilas de la lengua, paladar, faringe y laringe. Hay receptores para cuatro tipos de sabor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l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alado, ácido y am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l sabor es una combinación del sentido del gusto y del olfato. Tomada de www.msd.es"/>
          <p:cNvPicPr/>
          <p:nvPr/>
        </p:nvPicPr>
        <p:blipFill>
          <a:blip r:embed="rId1"/>
          <a:stretch/>
        </p:blipFill>
        <p:spPr>
          <a:xfrm>
            <a:off x="2771640" y="476280"/>
            <a:ext cx="3672000" cy="36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327240" y="609300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giene del olfato y gus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mpieza y cepillado de los dient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4. EL SENTIDO DEL OÍD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82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í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órganos de la audición y del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 distinguen tre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ex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bellón de la ore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liegue de la piel y cartíl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ducto auditivo 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glándulas que 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erumen y cerrado en su extremo final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mp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iene tre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uesecil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cadenados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tillo, yunque y estri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conectan el tímpano con el oído in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 con la faringe a través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ompa de Eustaqu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quilibra la presión a ambos lados del tímp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in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 un laberinto 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leno de un líqu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erilinf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ntro hay o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berinto membranoso rellen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aberinto tiene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es semicircula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ntido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clea o carac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side el sentid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&quot;Estructura interna de oído. Adaptado de www.tchain.com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653000"/>
            <a:ext cx="2447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a audi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s ondas sonoras las recoge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bellón aud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onducto auditivo → vibra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ímp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adena de huesecillos → líquidos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ecanorreceptores sensibles convierten el estímulo en impulsos nerviosos → nervio auditivo →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l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mover la cabeza se muev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muev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ared → lo transform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anda la información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oído perciben vibraciones y producen impulsos nerviosos que son transportad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r el nervio auditivo al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l oí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impiar con agua y jabón, evitar música muy alta, no introducir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Laberinto membranoso, estructura que alberga a los receptores del oído y del equilibrio. Adaptada de www.tchain.com"/>
          <p:cNvPicPr/>
          <p:nvPr/>
        </p:nvPicPr>
        <p:blipFill>
          <a:blip r:embed="rId1"/>
          <a:stretch/>
        </p:blipFill>
        <p:spPr>
          <a:xfrm>
            <a:off x="6012000" y="0"/>
            <a:ext cx="2736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14:43Z</dcterms:created>
  <dc:creator>Meri</dc:creator>
  <dc:description/>
  <dc:language>en-US</dc:language>
  <cp:lastModifiedBy>inma</cp:lastModifiedBy>
  <dcterms:modified xsi:type="dcterms:W3CDTF">2015-04-06T15:58:17Z</dcterms:modified>
  <cp:revision>56</cp:revision>
  <dc:subject/>
  <dc:title>TEMA 6: ESTÍMULO Y RESPUESTA. RECEPTORES Y EFECTORES</dc:title>
</cp:coreProperties>
</file>